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0D65-BCB8-4CAD-9DB6-2D5D22EC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9914-E684-48F4-8813-4F5493AD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9A26-B35C-419E-92BF-DA6BC6CC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2906-792C-4330-B779-C188511B7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3182-A7EE-4079-8F6A-942B2E7E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D75E-AAAE-48A2-A90B-08E84312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9E35-6449-4A3F-A30D-BFCC996E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DB74-2058-4087-B58D-112DE9C5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E120-E82F-46A7-B2BA-2415D660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577D-BDB9-42CF-8CF0-2F666530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9308-BB27-45CA-AE01-B7D9EDF2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6206-3237-4B7E-B361-07679E17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4025-8D44-40C8-B31C-FA7794022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Lament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rd, how long shall we cry for help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you will not list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r cry to you, ‘Violence!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you will not sa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1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faith and hope, we respon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ow long, O God, how long?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ow long, O people, how lo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ow long, O God, how long?’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2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ere is your justice, Go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ere is your purpo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ere is your reas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ere is your compass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3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Do you not care for your peopl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creation, your reput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purpose is hidd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om our ey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reason is absent to our ea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compassion is not discerned by our hear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4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have no hop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are l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are afrai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5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Some demand sig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others seek insigh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ut we have only Christ crucifie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stumbling block and fo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o the wisdom of our t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6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 Christ is the power and wisdom of God.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urely wisdom is vindica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her dee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be0e3"/>
                </a:solidFill>
                <a:latin typeface="Arial"/>
              </a:rPr>
              <a:t>1 Corinthians 1:22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be0e3"/>
                </a:solidFill>
                <a:latin typeface="Arial"/>
              </a:rPr>
              <a:t>Matthew 11: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7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faith, we appeal to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hope, we will not let God 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love, we claim God’s atten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8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et us honour th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receives our crie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gathers us to herself even as we continue to c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be0e3"/>
                </a:solidFill>
                <a:latin typeface="Arial"/>
              </a:rPr>
              <a:t>Matthew 23: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9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50:57Z</dcterms:created>
  <dc:creator>Anon Anon</dc:creator>
  <dc:description/>
  <dc:language>en-US</dc:language>
  <cp:lastModifiedBy>Anon Anon</cp:lastModifiedBy>
  <dcterms:modified xsi:type="dcterms:W3CDTF">2005-08-09T05:17:18Z</dcterms:modified>
  <cp:revision>17</cp:revision>
  <dc:subject/>
  <dc:title>Lament (SLD-2)</dc:title>
</cp:coreProperties>
</file>